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0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7.png" ContentType="image/png"/>
  <Override PartName="/ppt/media/image10.png" ContentType="image/png"/>
  <Override PartName="/ppt/media/image28.wmf" ContentType="image/x-wmf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8.png" ContentType="image/pn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B05-5299-4F7D-8CD2-84D3144DF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BINANT DNA AND POLYMERASE CHAIN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ion of Altere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biotic resistance gene used to identify recombin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lasmidclon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NIMATION –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ids will not work as well in eukaryotic organisms like plants 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thods need to be used to insert the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al vectors can be used for animal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can ‘inject’ their DNA into an animal host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use this technique on all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 can be used to insert genes into plant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rt.purdue.edu/hort/courses/HORT250/animations/Gene%20Gun%20Animation/Genegun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 G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technologists 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Solv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betics having reactions to porcine/animal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at crops being attacked by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sick with cystic fib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se can be fixed by recombinant DNA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have made the gene – how do we get lots of copies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Coli Plasmid is cut with the same restriction enzyme used to cut the insulin g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gene is cut from a pancreatic cell DNA using a specific restriction enzy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lin - Bacterial cells when supplied with required polypeptides or proteins, the colonies will produce insul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 Vaccines- The plamids are isolated from the e.coli cells, the genes are then amplifyed via PCR  and used to create inactivated viruses for vacc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ful Properties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lementary strands of DNA can be separated and re-associated by heating and coo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rand of DNA specifies the sequence of the other str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make more copies of DNA from a tiny DNA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manasinc.com/webcontent/animations/content/pc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merase Chain Reaction (PCR) Amplifies D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rs specify what DNA is cop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– Double Helix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piral strand is composed of a sugar phosphate backbone and attache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Bases: Adenine (A), Guanine(G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, and Thymine (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Base Pairs; A with T and C with G in the complementary strand v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(non- covalen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ands can be cut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riction enzymes, e.g. ECO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already kn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CR Amplifies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ow Chart of P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Insu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recombinant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food crops with immunity to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nsic Crime scene analysi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profi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Worl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hical issues related to “cloning” of human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genetically engineered organisms affect enviro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ad of genes to other organis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ill deci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 are often used in biotechnology as they have plasm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asmid a circular piece of DNA that exists apart from the chromosome and replicates independently of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teri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blanks of the work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that has been cut from one strand of DNA and then inserted into the gap of another piece of DNA that has been bro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st DNA is often a bacterial cell such as E co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splicing the gene into the host DNA is to produce many copies of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acteria reproduce in a very short time it is possible to make million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ies of the gene fairly 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Recombinant D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quired gene e.g. Insulin, is cut from the DNA using a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ircular piece of DNA, called a plasmid, is removed from the bacterial cell and is cut open using the same restriction enzy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t out human gene is then mixed with the bacterial plasmids in a test tu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have been cut with the same enzyme, the cut ends of the plasmid and the end of the human gene match. Often called ‘sticky end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 DNA ligase is used to stick the ends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make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Introducing the Plasmid Back - 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done by combining them in a test tube with CaCl2. The high concentration of calcium ions makes the membranes of the bacteria more po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hen allows the plasmids to move into the bacterial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bacteria will take up a plasm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is why the monitoring m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which bacteria have the ge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ecessary to isolate the host bacteria that contain the gene that has been spliced as only want the recombinant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containing the resistance to the antibiotic will survive and the others will be killed by the antibio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D80-4282-4285-8066-5C1DDE6E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1CE-4A0F-459C-81A9-24DDC397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D2AAE-F944-4C8B-8F1A-A734875D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C5F8D-A953-4051-8C3F-E9ECEF61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6E95B-9FDE-4391-B8C1-8E40C7E3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3B2A1-DDF6-4260-A685-12359E67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B96AE-CE2B-4A25-9209-D7CD5C3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917DC-6ECF-4E45-9FBF-EC22DC5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3C25B-E7ED-45BC-83F4-DFD7B52C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DEAB-334B-49D7-B33A-D4E3ABC9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95F73-3126-4060-B321-602281B1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B89BD-2AF5-47B9-A2DE-6F41354A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D8A-AEEC-4CA1-9E37-3A8FD9CF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6075-5D1B-4889-85B6-57E86BFC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EC058-D2C3-44CD-9567-73E48FD5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A4E5C-76F3-481D-9FF1-EDD5A3BC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34FD9-7B22-4E36-BC39-3F611686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46BD7-20A3-4D72-8414-8DD7ECDB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1AD8E-6D63-4FB2-A35F-E0E72D0D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ABB2B-745C-441E-BA40-93E3AFA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FEC92-9D04-4172-BC5D-B943EBE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2CA70-9E84-4006-8747-DB8936D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06F6-9256-433B-9802-50AFFD8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DD3-4E0A-4D5A-9CD9-886F396C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138C5-0B32-444C-9B4D-BDB7658C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B05B-7469-4832-9C28-75306DEF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3D41-5B48-4654-9434-1DCE252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26A5-98D9-498F-AF19-3315DF1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557-44CB-4CFD-80AF-18B47DCD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FCC1-0EB0-43EB-9F53-EFA49F7C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71A-0C4A-43DA-873B-5CE8AB52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51E7-816F-4038-BD78-C44E745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DE5-945B-453E-BA36-B578A7B9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4E77-18B8-4492-93D6-A42CFD3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75A7-71F3-4E0B-BDF7-19C6E5F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FECD-B733-4131-937C-AA3228D1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DB4-91B8-4531-80FF-F3A7E565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1A2F-BC8D-4064-AC1C-D3010677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3047D-C466-4CAF-BFBF-020E395D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F911-82C8-4811-986D-F94F3441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7F31-3A24-48B4-AAAB-4099C476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9A8D-09C2-4A15-B4CA-C6D63D8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C7F6-4546-4FE7-961C-FA87FC2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924-4530-4E45-BB08-51FDA42E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6CCD-FD96-4E34-B98D-0C570383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F69E-0C96-43D6-9A9E-0E0643C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56DB-5532-498A-92E5-644AE6A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B3F2-F6BD-414E-9306-B934233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F971-E508-4105-80D4-808A11F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9599-1098-476D-A18E-D1D005D6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6A53-8EC3-4B46-89AB-B10E0912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C2FA-897D-4257-A62B-9F574415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753E-E7E6-4E79-A3C0-45586473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3DD9-C79E-4D5F-AC26-83671F32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240-926E-49E6-9209-15674F2A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D064-9DEB-4EF3-AF78-699771B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1BDF-D536-42FE-873C-04BD2C5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429F-DA19-4E9C-A743-DC419C54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E52F-3048-4B34-B777-01AFED72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C54D4-C22F-4C01-B6A7-22736E8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7515C-577C-4F9C-B8DB-79BB8D37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75D6-538A-4692-A716-85EB1FB8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592B-A839-48B6-8238-B1CA5B6C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2349-3E18-4B61-BD5F-45826BB3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A3D9-4C82-46AE-8947-B8CEF26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5A3-F8DD-40FC-AD0F-7595B036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4028-21C3-4D6B-A6F2-4DEF369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8BDD-D781-417E-AEF8-1EF5DCF7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16D5-CFB9-4532-91A6-B2535611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CB52-2978-4B8D-A065-CC896843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7726F-BF50-494C-B36C-4AEF267C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0876-E66A-470D-8797-52AEB94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8E89-B370-48DE-8CD1-5AAEC21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3BFD6-C758-4D6F-ACF2-1C51B4BF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9B35F-FC91-45F6-BDB8-19DC91BF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F9F1B-BB06-4332-8753-291FD978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748-B411-4A93-9F77-580B9181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D1D9-F218-416F-81C4-69388754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68734-2F4F-4511-A543-2DA5CFFD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C98F0-1811-4EE2-AB80-A1F0898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56D7-CE10-42D4-9489-52B61583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0D6E-760D-47E4-B333-33FD8970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623E3-5D11-4B81-B6CB-D11356DF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F65B4-D83B-4348-B014-E42101EE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ED8BC-1906-401F-920C-E5F4467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D8AD-5A7E-410E-8CCB-8E4E37A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13E0F-325A-42DB-95D8-592D22F9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2D7-32B0-45CC-AF2A-55C4F03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D517-4BC2-498D-B308-9AEAFB05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8BAE-8A4D-45D7-9C98-68948B7A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231DA-C8B6-40BA-A575-77F2C1B5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295DD-15E4-44C9-AEAB-CACB2625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A80DA-47B2-426A-BBE0-62024E88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39C6C-0A7F-431B-BD3C-CB89694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46FE-07B6-4165-B0D9-634D3BB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69CB-BBEA-454D-BFC2-A480CA95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3CB16-C6AD-4E1E-8322-AD4785DA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73E59-7B1C-4F81-B628-3C19709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9D2-6A46-4C81-BBBB-F99B3A3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6DB82-6315-4B46-AE03-0D53D8BA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5ADBD-6685-4C3B-A50F-543222A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D9AD-E80F-4BE4-9422-22BF104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5796-1042-447D-A505-E76995BF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D3FF-266C-41FD-B2BC-2FCD36F4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907AE-3F15-4F12-9A78-DB8BCB97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2691-BC82-4A08-8D54-475DBA89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18AC4-1133-4D44-A7B2-47D66594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AFE99-99F9-445A-AF7B-8738381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64BDF-2B48-4D96-870C-824ADF2D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F60-A32A-471A-8A56-33E231C6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68F2-252F-420F-80ED-79A68CF2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365F-9CD2-49EC-8E56-1210C80D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64A83-C451-4C0D-AE57-B87ED6E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E1223-89FD-4409-87F2-DD5BDE6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F09C-FFD1-4C75-9A0A-826F066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E974-B839-4FA6-8F59-51985A47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C74EE-EEFD-491F-ACCB-94799F7D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7FC0-B2AE-4EA0-BF44-EDB02357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6BA12-425E-44EF-973F-0ACDC550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4655-CC65-4597-A5BD-F7D5CDDB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42E-43A0-42B7-9EAD-FA3773ABF7E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E7D6-4C81-425C-9DB8-874C386F29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5C26-5EEF-4164-A184-5842FEBDA8E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51A8-D30E-4785-B99B-B7925EC319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BAE3-0184-4184-A87B-F0A9272B3F2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6879-35ED-4EFA-9BEF-9CAB6889493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EEF1-9419-4985-B017-513C671E111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75D7-7F21-4DC0-9C17-B1BB11DFAF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CAC-2F54-4203-89D3-3E532FE3A6C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9BA-0D13-4DD6-A0B0-C5A7CCF009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lasmidcloning.html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rt.purdue.edu/hort/courses/HORT250/animations/Gene%20Gun%20Animation/Genegun1.html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hyperlink" Target="http://www.sumanasinc.com/webcontent/animations/content/pcr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237960" y="493560"/>
            <a:ext cx="8631360" cy="17431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73" name="Picture 3" descr="gejoke"/>
          <p:cNvPicPr/>
          <p:nvPr/>
        </p:nvPicPr>
        <p:blipFill>
          <a:blip r:embed="rId2"/>
          <a:stretch/>
        </p:blipFill>
        <p:spPr>
          <a:xfrm>
            <a:off x="1905120" y="2143080"/>
            <a:ext cx="53719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63680" y="133200"/>
            <a:ext cx="7997760" cy="10558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62120" y="55623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tibiotic resistance gene used to identify recombinant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Picture 7" descr="f10-10_one_method_for_s_c"/>
          <p:cNvPicPr/>
          <p:nvPr/>
        </p:nvPicPr>
        <p:blipFill>
          <a:blip r:embed="rId2"/>
          <a:stretch/>
        </p:blipFill>
        <p:spPr>
          <a:xfrm>
            <a:off x="1828800" y="1066680"/>
            <a:ext cx="5334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285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umanasinc.com/webcontent/animations/content/plasmidcloning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Title 1" descr=""/>
          <p:cNvPicPr/>
          <p:nvPr/>
        </p:nvPicPr>
        <p:blipFill>
          <a:blip r:embed="rId2"/>
          <a:stretch/>
        </p:blipFill>
        <p:spPr>
          <a:xfrm>
            <a:off x="244440" y="274680"/>
            <a:ext cx="8442360" cy="1189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"/>
          <p:cNvPicPr/>
          <p:nvPr/>
        </p:nvPicPr>
        <p:blipFill>
          <a:blip r:embed="rId3"/>
          <a:stretch/>
        </p:blipFill>
        <p:spPr>
          <a:xfrm>
            <a:off x="714240" y="2214720"/>
            <a:ext cx="7701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lasmids will not work as well in eukaryotic organisms like plants and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Other methods need to be used to insert the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Viral vectors can be used for animal c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virus can ‘inject’ their DNA into an animal host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virus2"/>
          <p:cNvPicPr/>
          <p:nvPr/>
        </p:nvPicPr>
        <p:blipFill>
          <a:blip r:embed="rId2"/>
          <a:stretch/>
        </p:blipFill>
        <p:spPr>
          <a:xfrm rot="285000">
            <a:off x="6441840" y="4362120"/>
            <a:ext cx="24429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17114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Gene Gun can be used to insert genes into plant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hort.purdue.edu/hort/courses/HORT250/animations/Gene%20Gun%20Animation/Genegun1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2"/>
          <a:stretch/>
        </p:blipFill>
        <p:spPr>
          <a:xfrm>
            <a:off x="2487600" y="274680"/>
            <a:ext cx="8485200" cy="1346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MCj02321110000[1]"/>
          <p:cNvPicPr/>
          <p:nvPr/>
        </p:nvPicPr>
        <p:blipFill>
          <a:blip r:embed="rId3"/>
          <a:stretch/>
        </p:blipFill>
        <p:spPr>
          <a:xfrm>
            <a:off x="108000" y="465300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MCj03393020000[1]"/>
          <p:cNvPicPr/>
          <p:nvPr/>
        </p:nvPicPr>
        <p:blipFill>
          <a:blip r:embed="rId4"/>
          <a:stretch/>
        </p:blipFill>
        <p:spPr>
          <a:xfrm>
            <a:off x="7308720" y="460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031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abetics having reactions to porcine/animal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at crops being attacked by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ople sick with cystic fibro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these can be fixed by recombinant DNA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a Flow Chart show the steps involved in making recombinant DNA for a desired gene.  From cutting of the gene to the final product (this may involve the delivery metho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5" descr="MCj04398510000[1]"/>
          <p:cNvPicPr/>
          <p:nvPr/>
        </p:nvPicPr>
        <p:blipFill>
          <a:blip r:embed="rId2"/>
          <a:stretch/>
        </p:blipFill>
        <p:spPr>
          <a:xfrm>
            <a:off x="7236000" y="189000"/>
            <a:ext cx="192384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-360" y="571680"/>
            <a:ext cx="871524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ucida Sans Unicode"/>
              </a:rPr>
              <a:t>Now we have made the gene – how do we get lots of copies??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Diagram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926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857160" y="142920"/>
            <a:ext cx="2071800" cy="6429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E.Coli Plasmid is cut with the same restriction enzyme used to cut the insulin ge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429240" y="142920"/>
            <a:ext cx="2143440" cy="5713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Insulin gene is cut from a pancreatic cell DNA using a specific restriction enzy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57120" y="6143760"/>
            <a:ext cx="285768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sulin - Bacterial cells when supplied with required polypeptides or proteins, the colonies will produce insul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5929200" y="6143760"/>
            <a:ext cx="3000600" cy="7142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E.g Vaccines- The plamids are isolated from the e.coli cells, the genes are then amplifyed via PCR  and used to create inactivated viruses for vacc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ight Arrow 6"/>
          <p:cNvSpPr/>
          <p:nvPr/>
        </p:nvSpPr>
        <p:spPr>
          <a:xfrm>
            <a:off x="3071880" y="428760"/>
            <a:ext cx="2142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eft Arrow 7"/>
          <p:cNvSpPr/>
          <p:nvPr/>
        </p:nvSpPr>
        <p:spPr>
          <a:xfrm>
            <a:off x="5929200" y="500040"/>
            <a:ext cx="357480" cy="1429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Straight Arrow Connector 12"/>
          <p:cNvCxnSpPr/>
          <p:nvPr/>
        </p:nvCxnSpPr>
        <p:spPr>
          <a:xfrm>
            <a:off x="4857480" y="6215040"/>
            <a:ext cx="786600" cy="286560"/>
          </a:xfrm>
          <a:prstGeom prst="straightConnector1">
            <a:avLst/>
          </a:prstGeom>
          <a:ln w="4428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8" name="Straight Arrow Connector 14"/>
          <p:cNvCxnSpPr/>
          <p:nvPr/>
        </p:nvCxnSpPr>
        <p:spPr>
          <a:xfrm flipH="1">
            <a:off x="3428640" y="6215040"/>
            <a:ext cx="1000800" cy="2865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Rectangle 2" descr=""/>
          <p:cNvPicPr/>
          <p:nvPr/>
        </p:nvPicPr>
        <p:blipFill>
          <a:blip r:embed="rId1"/>
          <a:stretch/>
        </p:blipFill>
        <p:spPr>
          <a:xfrm>
            <a:off x="463680" y="176040"/>
            <a:ext cx="7997760" cy="10494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523800" y="1576440"/>
            <a:ext cx="41911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complementary strands of DNA can be separated and re-associated by heating and cool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Sans Unicode"/>
              </a:rPr>
              <a:t>One strand of DNA specifies the sequence of the other stran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1" name="Picture 6" descr="f10-1a_dna_heating_and__c"/>
          <p:cNvPicPr/>
          <p:nvPr/>
        </p:nvPicPr>
        <p:blipFill>
          <a:blip r:embed="rId2"/>
          <a:stretch/>
        </p:blipFill>
        <p:spPr>
          <a:xfrm>
            <a:off x="5029200" y="2057400"/>
            <a:ext cx="380988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sumanas_pcr.m4v" descr=""/>
          <p:cNvPicPr/>
          <p:nvPr/>
        </p:nvPicPr>
        <p:blipFill>
          <a:blip r:embed="rId1"/>
          <a:stretch/>
        </p:blipFill>
        <p:spPr>
          <a:xfrm>
            <a:off x="2050920" y="124776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523" name="Title 1" descr=""/>
          <p:cNvPicPr/>
          <p:nvPr/>
        </p:nvPicPr>
        <p:blipFill>
          <a:blip r:embed="rId2"/>
          <a:stretch/>
        </p:blipFill>
        <p:spPr>
          <a:xfrm>
            <a:off x="835200" y="274680"/>
            <a:ext cx="8484840" cy="12430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7"/>
          <p:cNvSpPr/>
          <p:nvPr/>
        </p:nvSpPr>
        <p:spPr>
          <a:xfrm>
            <a:off x="-216000" y="5516640"/>
            <a:ext cx="939636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Sans Unicode"/>
              </a:rPr>
              <a:t>Used to make more copies of DNA from a tiny DN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sumanasinc.com/webcontent/animations/content/pcr.html</a:t>
            </a:r>
            <a:r>
              <a:rPr b="0" lang="en-A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Rectangle 2" descr=""/>
          <p:cNvPicPr/>
          <p:nvPr/>
        </p:nvPicPr>
        <p:blipFill>
          <a:blip r:embed="rId1"/>
          <a:stretch/>
        </p:blipFill>
        <p:spPr>
          <a:xfrm>
            <a:off x="384120" y="85680"/>
            <a:ext cx="8266320" cy="16146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37720" y="5866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909"/>
                </a:solidFill>
                <a:latin typeface="Lucida Sans Unicode"/>
              </a:rPr>
              <a:t>Primer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specify what DNA is copi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7" name="Picture 5" descr="f10-6a_diagram_of_the_p_c"/>
          <p:cNvPicPr/>
          <p:nvPr/>
        </p:nvPicPr>
        <p:blipFill>
          <a:blip r:embed="rId2"/>
          <a:srcRect l="0" t="0" r="0" b="45000"/>
          <a:stretch/>
        </p:blipFill>
        <p:spPr>
          <a:xfrm>
            <a:off x="990720" y="1600200"/>
            <a:ext cx="67816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341360"/>
            <a:ext cx="77580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– Double Helix Struc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spiral strand is composed of a sugar phosphate backbone and attached b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 Bases: Adenine (A), Guanine(G)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ytosine (C), and Thymine (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 Base Pairs; A with T and C with G in the complementary strand v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drogen bonding (non- covalent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trands can be cut 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triction enzymes, e.g. ECOR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dna.gif"/>
          <p:cNvPicPr/>
          <p:nvPr/>
        </p:nvPicPr>
        <p:blipFill>
          <a:blip r:embed="rId2"/>
          <a:stretch/>
        </p:blipFill>
        <p:spPr>
          <a:xfrm>
            <a:off x="6537240" y="4005360"/>
            <a:ext cx="2787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2" descr=""/>
          <p:cNvPicPr/>
          <p:nvPr/>
        </p:nvPicPr>
        <p:blipFill>
          <a:blip r:embed="rId1"/>
          <a:stretch/>
        </p:blipFill>
        <p:spPr>
          <a:xfrm>
            <a:off x="433440" y="609480"/>
            <a:ext cx="8028000" cy="12430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805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Genetic enginee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Picture 3" descr="f10-6b_diagram_of_the_p_c"/>
          <p:cNvPicPr/>
          <p:nvPr/>
        </p:nvPicPr>
        <p:blipFill>
          <a:blip r:embed="rId2"/>
          <a:stretch/>
        </p:blipFill>
        <p:spPr>
          <a:xfrm>
            <a:off x="228600" y="1752480"/>
            <a:ext cx="8610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63480" y="18446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Production of Insul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recombinant vaccin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king food crops with immunity to ins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Forensic Crime scene analysis –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DNA profi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itle 1" descr=""/>
          <p:cNvPicPr/>
          <p:nvPr/>
        </p:nvPicPr>
        <p:blipFill>
          <a:blip r:embed="rId1"/>
          <a:stretch/>
        </p:blipFill>
        <p:spPr>
          <a:xfrm>
            <a:off x="1268280" y="549360"/>
            <a:ext cx="8479080" cy="1243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MCj02908650000[1]"/>
          <p:cNvPicPr/>
          <p:nvPr/>
        </p:nvPicPr>
        <p:blipFill>
          <a:blip r:embed="rId2"/>
          <a:stretch/>
        </p:blipFill>
        <p:spPr>
          <a:xfrm>
            <a:off x="6227640" y="427356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MCj02152430000[1]"/>
          <p:cNvPicPr/>
          <p:nvPr/>
        </p:nvPicPr>
        <p:blipFill>
          <a:blip r:embed="rId3"/>
          <a:stretch/>
        </p:blipFill>
        <p:spPr>
          <a:xfrm rot="1014600">
            <a:off x="217440" y="43920"/>
            <a:ext cx="1185840" cy="2268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MCj04417140000[1]"/>
          <p:cNvPicPr/>
          <p:nvPr/>
        </p:nvPicPr>
        <p:blipFill>
          <a:blip r:embed="rId4"/>
          <a:stretch/>
        </p:blipFill>
        <p:spPr>
          <a:xfrm>
            <a:off x="6875640" y="907920"/>
            <a:ext cx="23763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thical issues related to “cloning” of human ge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will genetically engineered organisms affect environm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read of genes to other organis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o will decid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eneticengtuna"/>
          <p:cNvPicPr/>
          <p:nvPr/>
        </p:nvPicPr>
        <p:blipFill>
          <a:blip r:embed="rId1"/>
          <a:stretch/>
        </p:blipFill>
        <p:spPr>
          <a:xfrm>
            <a:off x="2154240" y="457200"/>
            <a:ext cx="4775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Bacteria are often used in biotechnology as they have plasm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lasmid a circular piece of DNA that exists apart from the chromosome and replicates independently of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Title 5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plasmid.jpg"/>
          <p:cNvPicPr/>
          <p:nvPr/>
        </p:nvPicPr>
        <p:blipFill>
          <a:blip r:embed="rId2"/>
          <a:stretch/>
        </p:blipFill>
        <p:spPr>
          <a:xfrm>
            <a:off x="428760" y="4286160"/>
            <a:ext cx="3714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19700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that has been cut from one strand of DNA and then inserted into the gap of another piece of DNA that has been bro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st DNA is often a bacterial cell such a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 col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urpose of splicing the gene into the host DNA is to produce many copies of i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bacteria reproduce in a very short time it is possible to make millions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pies of the gene fairly quick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bacteria"/>
          <p:cNvPicPr/>
          <p:nvPr/>
        </p:nvPicPr>
        <p:blipFill>
          <a:blip r:embed="rId2"/>
          <a:stretch/>
        </p:blipFill>
        <p:spPr>
          <a:xfrm>
            <a:off x="6372360" y="4724280"/>
            <a:ext cx="26841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required gene e.g. Insulin, is cut from the DNA using a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 circular piece of DNA, called a plasmid, is removed from the bacterial cell and is cut open using the same restriction enzym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ut out human gene is then mixed with the bacterial plasmids in a test tub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cause they have been cut with the same enzyme, the cut ends of the plasmid and the end of the human gene match. Often called ‘sticky ends’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enzyme DNA ligase is used to stick the ends togeth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it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ontent Placeholder 3" descr="inserting.gif"/>
          <p:cNvPicPr/>
          <p:nvPr/>
        </p:nvPicPr>
        <p:blipFill>
          <a:blip r:embed="rId1"/>
          <a:stretch/>
        </p:blipFill>
        <p:spPr>
          <a:xfrm>
            <a:off x="1714680" y="714240"/>
            <a:ext cx="535752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51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w the plasmids that contains the introduced gene (recombinant DNA) need to be reintroduced into the bacteria so they can multiply and make more of the gen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Can be done by combining them in a test tube with CaCl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. The high concentration of calcium ions makes the membranes of the bacteria more porou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is then allows the plasmids to move into the bacterial cells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ot all bacteria will take up a plasmid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nd this is why the monitoring mus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app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Picture 7" descr="MCj04417150000[1]"/>
          <p:cNvPicPr/>
          <p:nvPr/>
        </p:nvPicPr>
        <p:blipFill>
          <a:blip r:embed="rId2"/>
          <a:stretch/>
        </p:blipFill>
        <p:spPr>
          <a:xfrm>
            <a:off x="7236000" y="471816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4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ecessary to isolate the host bacteria that contain the gene that has been spliced as only want the recombinant D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y having a gene on the same plasmid that gives resistance to an antibiotic, the other bacteria can be removed by culturing the bacteria in a medium that contains the antibioti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acteria containing the resistance to the antibiotic will survive and the others will be killed by the antibiot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7:47:47Z</dcterms:created>
  <dc:creator>Corporate Edition</dc:creator>
  <dc:description/>
  <dc:language>en-US</dc:language>
  <cp:lastModifiedBy>RomaK</cp:lastModifiedBy>
  <dcterms:modified xsi:type="dcterms:W3CDTF">2015-09-04T11:35:12Z</dcterms:modified>
  <cp:revision>37</cp:revision>
  <dc:subject/>
  <dc:title>RECOMBINANT DNA AND POLYMERASE CHAIN REACTIONS</dc:title>
</cp:coreProperties>
</file>